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3318-06E2-49DE-92BE-AD4425FB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83A1-B0E6-478C-94B9-E16A6699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AC5-3ED3-47BE-A617-843A8E7C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B02-4F6B-4458-8A2F-C293556C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739-6357-483B-91FC-9005AEAC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86E9-4774-4381-BCEC-765B6CCD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DCF4-D0AA-4294-AC15-BB867ED6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B14A-75EF-4DA2-A7C1-E17BD909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3345-128C-4B68-B8CA-6076DC5B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B857-385E-41CD-AE81-DED793BD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E2F1-0651-4E16-AB12-B6A0FB44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D4D3-5A3A-4012-A305-2419DB9B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511F-9E12-4B04-89E7-F4FA7C5D2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e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The Ne…Pas Sandwhi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How to form negative sentenc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like in English, there are two required parts to change a sentence from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FFIRMATIV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NEGATIV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French, you follow the following formula that I will call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…pas sandwhich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read) +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eat)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p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other piece of bre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J’ai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Je n’ai pa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J’ai six stylos </a:t>
            </a:r>
            <a:r>
              <a:rPr b="1" lang="en-US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Je n’ai pas de stylo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J’ai deux posters.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Vous avez trois fenêtres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_________________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ls ont un livre.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________________________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ous avons deux portes.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________________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12:22Z</dcterms:created>
  <dc:creator>Robbie</dc:creator>
  <dc:description/>
  <dc:language>en-US</dc:language>
  <cp:lastModifiedBy>Robbie</cp:lastModifiedBy>
  <dcterms:modified xsi:type="dcterms:W3CDTF">2012-09-09T18:21:40Z</dcterms:modified>
  <cp:revision>1</cp:revision>
  <dc:subject/>
  <dc:title>Negation</dc:title>
</cp:coreProperties>
</file>